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DF5-3FAA-4E20-8691-42E94CFA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EB9-AE01-48D2-8E2D-A85D727E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965-8D67-465F-888F-12057059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13A-2F67-419C-AEF7-E18C382B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93D6-25AB-4E41-A938-EE905BD0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6E70-3EA9-4083-BC08-429BDBF0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7882-44DF-4AD6-84C1-C7904801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6785-DB32-4391-8C3C-AC2194D0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2A9C-546D-4D60-9EC4-239EFD26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991F-9EC9-4BA5-9679-5A2EF724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EFA3-611A-466C-9F3E-2A376B28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29E-8282-4BC2-B541-8A15DEF7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3AB0-0BF4-4AEF-9C7B-58F6C8E9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97CD-98DB-42A5-B9A8-15A53022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2696-D781-44B3-9EC4-7D18A6E2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867C-4401-417F-B0DD-36CB17EF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663-4874-4029-A353-E49A7D96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AC2-9983-4283-B962-D762FA22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32E-3946-403A-B5FD-40029190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936-40A9-4D04-B2C3-AE2D0282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4C5-0508-4EE1-BE08-F45B369E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B91-2352-4BD5-8665-6A2D562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B07-2D26-4DE2-9C86-EBF80B4A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A58-2E25-4DFD-972B-86A0C8E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517F-C463-400A-9C99-E8BCCBE25A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E471-3E30-4AB2-8904-824996EBA5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4371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84360" y="333360"/>
            <a:ext cx="71294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51280" y="2637000"/>
            <a:ext cx="2736720" cy="10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GLOBALIZZ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297200">
            <a:off x="468000" y="1699920"/>
            <a:ext cx="3760920" cy="1152360"/>
          </a:xfrm>
          <a:prstGeom prst="rightArrow">
            <a:avLst>
              <a:gd name="adj1" fmla="val 50000"/>
              <a:gd name="adj2" fmla="val 8159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Miglior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dei mezzi di trasp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00000">
            <a:off x="453600" y="3852360"/>
            <a:ext cx="4127400" cy="1224000"/>
          </a:xfrm>
          <a:prstGeom prst="rightArrow">
            <a:avLst>
              <a:gd name="adj1" fmla="val 50000"/>
              <a:gd name="adj2" fmla="val 84301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iglior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zzi di comun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189000"/>
            <a:ext cx="25207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iduzione distan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084720" y="1268280"/>
            <a:ext cx="21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427640" y="1196640"/>
            <a:ext cx="720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59280" y="189000"/>
            <a:ext cx="30607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Libera circol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di mer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7800" y="4365720"/>
            <a:ext cx="698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3573360"/>
            <a:ext cx="27003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bera circola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 pers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16720" y="2276640"/>
            <a:ext cx="360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1413000"/>
            <a:ext cx="22669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Stili di vita sim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4797360"/>
            <a:ext cx="2449800" cy="843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Immigrazione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ittà multietn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3357720"/>
            <a:ext cx="7192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58Z</dcterms:created>
  <dc:creator>studente</dc:creator>
  <dc:description/>
  <dc:language>en-US</dc:language>
  <cp:lastModifiedBy>studente</cp:lastModifiedBy>
  <dcterms:modified xsi:type="dcterms:W3CDTF">2016-11-21T10:31:46Z</dcterms:modified>
  <cp:revision>4</cp:revision>
  <dc:subject/>
  <dc:title>Diapositiva 1</dc:title>
</cp:coreProperties>
</file>